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F72E-3E44-4568-BA7F-695E6326BF1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Социально – психологиче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тренинг с подростк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alibri"/>
              </a:rPr>
              <a:t>Методическая разработка  в помощь</a:t>
            </a:r>
            <a:r>
              <a:rPr b="1" lang="en-US" sz="20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Calibri"/>
              </a:rPr>
              <a:t> организатору тренинга с подростк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оставитель –  Платонова М.В., педагог - -психолог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                       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МОУ «Нововилговская средняя школа №3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                                                          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Республики Каре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A3A9-358F-4C9D-BCE8-C71E13EC72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EA7F-047B-4812-BFF3-A546D6CD9E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937E-9D3C-43F5-8D5D-1BA7104BB5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равила работы в групп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обровольность учас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а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искренность и открыт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ринцип «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«здесь и тепер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конфиденци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обеспечение психологической и физической безопасности участников группы</a:t>
            </a: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87C6C-5CB5-4181-ABFF-6E5000E35C0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труктура за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азми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создание непринуждённой, доброжелательной атм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овышение сплочённости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.    Основная ча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аскрытие темы за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ешение задач поставленных перед участниками трен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ефлекс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Осуществление обратной связи о состоянии участников трен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 конце д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03F4F-94A3-4FC5-A6F4-A205942A75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ценарии зан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разработанные авторским коллективом Нововилговской средней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Тренинг общения (Платонова М.В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Тренинг к учебному курсу «Экология» (Рыжкова Л.И., Платонова М.В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Тренинг профессионального самоопределения (Платонова М.В., Соловьёва Р.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Тренинг лидерских качеств (Платонова М.В.,Соловьёва М.М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Тренинг «Школа лидера» (Мальцева Т.П.,Платонова М.В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рекомендованные учёнными - психоло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ля работы с подростками 6,7,12,13, 14,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сихологические тренинги детско-родительских отношений 2, 9,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F88CF-FB70-47D8-89AE-7626C316394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Березников А. Обратная связь в групповой работе с подростками.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практического психол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1999, №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аринская В.М. Психологический тренинг детско-родительских отношений.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Семейная псих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и семейная терапия.2000, №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Исурина Г. Групповая динамика в тренинговых группах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 //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Журнал практического психолога.1999,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ебедева Е. Психология изменений и изменчивый мир подростка в групповой работе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рактического психолога.1998,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5.     Лидерс А.Г. Группы личностного роста с подростками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практического психолога.1996,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идерс А.Г. Психологические игры с подростками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Журнал практического психолога.1996, №1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идерс А.Г. Психологический тренинг с подростками.М.,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акшанов С. Принципы психологического тренинга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практического психолога.1999,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арковская И. Опыт проведения тренинга взаимодействия родителей с детьми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Журнал практи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ческого психолога.1998, №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инеева О.А.,Кабанов А.В. Программа «Работа с семьями подростков,имеющими трудности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адаптации»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Семейная психология и семейная терапия.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1997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,№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Новак А. Обратная связь о состоянии группы и участников социально-психологического тренинга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Журнал практического психолога.199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8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,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рудченков А.С. Социально-психологический тренинг в школе. М.,200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сихологическое сопровождение выбора профессии. Научно-методическое пособие.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под.р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итиной Л.М. М.,200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оманенко О.К. Практическая гештальттерапия. М.,199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Солдатова , Шайгерова Г.У., Шарова О.Д. Жить в мире с собой и другими. Тренинг толеран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ля подростков. М., 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Хасан Е.Б. Игра и конфликт в подростковом возрасте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практического психолога. 1996,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Хасан Б.И. Психолого-педагогические условия протекания пубертатного периода у девочек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альчиков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практического психолога. 1996,№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18.     Чистякова С.Н., Лернер П.С., Родичев Н.Ф., Титов Е. В. Педагогическая поддержка профессиональ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ного самоопределения старшеклассников. М., 200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A06A-11E9-4FC6-BE1E-FEBD370308A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пецифика подросткового пери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A93A-4371-4425-9E6B-EA260AFF36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пецифика подросткового возра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703C-497C-4DA3-96F5-ED0AE14E1F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пецифика подросткового возра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«Вместе с тем, подростку важен взрослый, ему важно его признание  и важно его понимание, по каким нормам живут люди (взрослые) в этом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Что подходит ему уже сейчас, а что нет». (Хасан Е.Б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«Старшие подростки обнаруживают не меньшую, а часто и большую потребность в доверительных, глубоких, диалогических, демократических,  очень похожих на интимные в широком смысле этого слова контактах со взрослыми, причём как своего так и противоположного пола». (Лидерс А.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1A2A-1D34-4972-AA48-ADB08B1BFD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пецифика подросткового возра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Основные потребности подростка (Ремшмидт Х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«Группы личностного рост с подростками дают последним возможность опробовать, а частично и реализовать, способы удовлетворения всех этих потребностей». (Лидерс А.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46D5-B6A5-4C67-BF83-8F1939775C4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504d"/>
                </a:solidFill>
                <a:latin typeface="Calibri"/>
              </a:rPr>
              <a:t>«Педагогическое сопровождение социально – профессионального самоопределения школьников – это особая сфера деятельности педагога – фасилитатора, ориентированная на взаимодействие со школьником по оказанию ему поддержки в становлении личностного роста, социальной адаптации, принятии решения об избираемой профессиональной деятельности и самоутверждения в ней». (Чистякова С.Н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504d"/>
                </a:solidFill>
                <a:latin typeface="Calibri"/>
              </a:rPr>
              <a:t>Принципиально новым оптимальным методом для реализации такого подхода может служить 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1F83-251F-469F-9806-AB8982484D4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- это форма специально организованного общения, психологическое воздействие которого основано на активных методах группово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«</a:t>
            </a:r>
            <a:r>
              <a:rPr b="0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Важнейшая задача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– помочь участнику выразить себя своими индивидуальными средствами, именно СВОИМИ, а для этого сначала нужно научиться  воспринимать и понимать себя». (Прудченков А.С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F8732-A0FC-4A61-BB99-81C77BB8F6B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Даёт</a:t>
            </a: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 возможность воспринимать себя чере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27052-58ED-4D4A-B132-6D2BDF63FD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Ведущая гуманистическая идея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– не принуждать человека, не давить на нег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а помочь ему стать самим соб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Основная цель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– развитие компетентности в общ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67F3-4DD9-4237-86E9-379B7FC2BC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9122-6C88-4580-BC37-ACC00925A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06F4-86DB-4D1C-8970-A32AEC68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507D-1759-46BF-99E0-3AA780922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D5CCB-5F3C-4CDB-8C6F-D9CE308FB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70F8-70B0-4A5B-8B71-DE4E95F8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9063-B63A-4AAB-82B3-1E3A6617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4987-AB4E-4E53-AF02-3D914856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B390-7826-4F23-A16F-BECDF040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AAD6-0837-4C15-9DB0-0C58F84D5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A3D4-CD35-496D-AE7B-D37F9FF6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6B31-3FCC-4818-8E60-251D37F0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0C9F-FC68-41AA-B02E-BA29412C6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B4EC1-A639-45BE-B7BB-769D38D87B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50920" y="404640"/>
            <a:ext cx="864216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циально – психолог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ренинг с подрост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Методическая разработка  в помощь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 организатору тренинга с подрост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оставитель –  Платонова М.В., педагог - -психолог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               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МОУ «Нововилговская средняя школа №3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еспублики Каре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30312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060360" y="907920"/>
            <a:ext cx="24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сновные 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332280" y="1484280"/>
            <a:ext cx="720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развития личности в межличностном простран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Курт Лев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324000" y="220500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жизненных умений( бихевиорально ориентированный подх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Джон Уот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И.П.Пав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28680" y="3141720"/>
            <a:ext cx="832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решения личностных проблем (психодраматический подх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Джекобу Леви Море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328320" y="4005360"/>
            <a:ext cx="844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свободного самоопределения групп (гуманистический под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Карл Роджер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Уильям Шут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395280" y="494172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рационального самопознания и саморазвития (трансактный анализ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Эрик Бёр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234360" y="5942160"/>
            <a:ext cx="889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самоактуализации и саморегуляции (гештальтподход в групп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бо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Фредерик Перл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2044440" y="476280"/>
            <a:ext cx="495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5"/>
          <p:cNvSpPr/>
          <p:nvPr/>
        </p:nvSpPr>
        <p:spPr>
          <a:xfrm>
            <a:off x="2989440" y="112536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нцип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Макшан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141120" y="1844640"/>
            <a:ext cx="13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озд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2109960" y="29973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вед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участ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732200" y="4581360"/>
            <a:ext cx="235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рганизацио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6732720" y="242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э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60200" y="1771560"/>
            <a:ext cx="2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2176560" y="2563920"/>
            <a:ext cx="245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3173400" y="2513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2125440" y="2781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4567680" y="5084640"/>
            <a:ext cx="2855160" cy="122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физическая закрыт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комплектование груп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(гомогенность-гетерогенность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остранственно-времен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организ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6588000" y="2924280"/>
            <a:ext cx="2195640" cy="122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конфиденциа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соответствие заяв-ленных целей тренинга его содержа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ненанесение ущерб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180720" y="2492280"/>
            <a:ext cx="1620720" cy="100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систем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детермин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реалистич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избыточ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1617480" y="3716280"/>
            <a:ext cx="27486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актив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исследовательская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творческая пози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субъект-субъектное общ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объективация пове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искре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«здесь и тепер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7"/>
          <p:cNvSpPr/>
          <p:nvPr/>
        </p:nvSpPr>
        <p:spPr>
          <a:xfrm>
            <a:off x="1412640" y="260280"/>
            <a:ext cx="68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8"/>
          <p:cNvSpPr/>
          <p:nvPr/>
        </p:nvSpPr>
        <p:spPr>
          <a:xfrm flipH="1">
            <a:off x="1402920" y="1484280"/>
            <a:ext cx="1513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9"/>
          <p:cNvSpPr/>
          <p:nvPr/>
        </p:nvSpPr>
        <p:spPr>
          <a:xfrm flipH="1">
            <a:off x="2916360" y="1557360"/>
            <a:ext cx="57600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0"/>
          <p:cNvSpPr/>
          <p:nvPr/>
        </p:nvSpPr>
        <p:spPr>
          <a:xfrm>
            <a:off x="4427640" y="1557360"/>
            <a:ext cx="1224000" cy="30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1"/>
          <p:cNvSpPr/>
          <p:nvPr/>
        </p:nvSpPr>
        <p:spPr>
          <a:xfrm>
            <a:off x="5219640" y="1557360"/>
            <a:ext cx="2016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395280" y="1484280"/>
            <a:ext cx="8209080" cy="50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обровольность учас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акти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искренность и открыт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ринцип «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«здесь и тепер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онфиденци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беспечение психологической и физической безопасности участников группы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412640" y="260280"/>
            <a:ext cx="68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68360" y="90792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авила работы в груп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6"/>
          <p:cNvSpPr/>
          <p:nvPr/>
        </p:nvSpPr>
        <p:spPr>
          <a:xfrm>
            <a:off x="231840" y="49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2921760" y="1001880"/>
            <a:ext cx="348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труктура зан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69840" y="1700280"/>
            <a:ext cx="90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187200">
              <a:buClr>
                <a:srgbClr val="3333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азми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18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оздание непринуждённой, доброжелательной атмосф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18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вышение сплочённости 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160" y="3284640"/>
            <a:ext cx="924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    Основная ча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аскрытие темы за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ешение задач поставленных перед участниками трен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179280" y="4797360"/>
            <a:ext cx="914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277920">
              <a:buClr>
                <a:srgbClr val="333399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ефлекс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7792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существление обратной связи о состоянии участников трен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7792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 конце д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1125000" y="404640"/>
            <a:ext cx="68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5"/>
          <p:cNvSpPr/>
          <p:nvPr/>
        </p:nvSpPr>
        <p:spPr>
          <a:xfrm>
            <a:off x="3205440" y="907920"/>
            <a:ext cx="29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ценарии зан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79280" y="1628640"/>
            <a:ext cx="8613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азработанные авторским коллективом Нововилговской средней шк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ренинг общения (Платонова М.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ренинг к учебному курсу «Экология» (Рыжкова Л.И., Платонова М.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ренинг профессионального самоопределения (Платонова М.В., Соловьёва Р.Л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ренинг лидерских качеств (Платонова М.В.,Соловьёва М.М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ренинг «Школа лидера» (Мальцева Т.П.,Платонова М.В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89000" y="5157720"/>
            <a:ext cx="895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екомендованные учёнными - психолог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ля работы с подростками 6,7,12,13, 14,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сихологические тренинги детско-родительских отношений 2, 9,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1125000" y="333360"/>
            <a:ext cx="68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5"/>
          <p:cNvSpPr/>
          <p:nvPr/>
        </p:nvSpPr>
        <p:spPr>
          <a:xfrm>
            <a:off x="-447480" y="65160"/>
            <a:ext cx="972756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Березников А. Обратная связь в групповой работе с подростками.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практического психоло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1999, №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Даринская В.М. Психологический тренинг детско-родительских отношений.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Семейная психолог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и семейная терапия.2000, №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Исурина Г. Групповая динамика в тренинговых группах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//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Журнал практического психолога.1999,№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Лебедева Е. Психология изменений и изменчивый мир подростка в групповой работе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актического психолога.1998, №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5.     Лидерс А.Г. Группы личностного роста с подростками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практического психолога.1996, №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Лидерс А.Г. Психологические игры с подростками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Журнал практического психолога.1996, №1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Лидерс А.Г. Психологический тренинг с подростками.М.,2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Макшанов С. Принципы психологического тренинга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практического психолога.1999,№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Марковская И. Опыт проведения тренинга взаимодействия родителей с детьми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Журнал практи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ческого психолога.1998, №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Минеева О.А.,Кабанов А.В. Программа «Работа с семьями подростков,имеющими трудности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адаптации»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Семейная психология и семейная терапия.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997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,№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Новак А. Обратная связь о состоянии группы и участников социально-психологического тренинга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Журнал практического психолога.199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,№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удченков А.С. Социально-психологический тренинг в школе. М.,2001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сихологическое сопровождение выбора профессии. Научно-методическое пособие.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под.ре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Митиной Л.М. М.,2003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Романенко О.К. Практическая гештальттерапия. М.,199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Солдатова , Шайгерова Г.У., Шарова О.Д. Жить в мире с собой и другими. Тренинг толерант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для подростков. М., 2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Хасан Е.Б. Игра и конфликт в подростковом возрасте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практического психолога. 1996,№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Хасан Б.И. Психолого-педагогические условия протекания пубертатного периода у девочек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мальчиков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практического психолога. 1996,№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18.     Чистякова С.Н., Лернер П.С., Родичев Н.Ф., Титов Е. В. Педагогическая поддержка профессиональ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ного самоопределения старшеклассников. М.,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897120" y="476280"/>
            <a:ext cx="745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Специфика подросткового пери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763560" y="1365120"/>
            <a:ext cx="77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Сферы развития, подвергающиеся изменения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757440" y="2205000"/>
            <a:ext cx="8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е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1765440" y="27082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ыш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3348360" y="321300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циальная жиз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6230520" y="364500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амосозн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770200" y="4148280"/>
            <a:ext cx="42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Основные задачи (Кле М.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809640" y="4672080"/>
            <a:ext cx="53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убертатн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гнитивн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еобразования социа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тановление идент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-92160" y="37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611280" y="1413000"/>
            <a:ext cx="8204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Задача самоопред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олов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озраст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оциа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оловая                         уже не ребёнок,                необходимость за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идентификация             но ещё не взрослый.       нять определё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                            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то же?                             место в обществ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  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группе сверстни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  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1837080" y="47628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пецифика подросткового возра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9"/>
          <p:cNvGrpSpPr/>
          <p:nvPr/>
        </p:nvGrpSpPr>
        <p:grpSpPr>
          <a:xfrm>
            <a:off x="1763280" y="2708280"/>
            <a:ext cx="5545440" cy="504720"/>
            <a:chOff x="1763280" y="2708280"/>
            <a:chExt cx="5545440" cy="504720"/>
          </a:xfrm>
        </p:grpSpPr>
        <p:sp>
          <p:nvSpPr>
            <p:cNvPr id="63" name="Line 6"/>
            <p:cNvSpPr/>
            <p:nvPr/>
          </p:nvSpPr>
          <p:spPr>
            <a:xfrm flipH="1">
              <a:off x="1763280" y="2708280"/>
              <a:ext cx="201636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7"/>
            <p:cNvSpPr/>
            <p:nvPr/>
          </p:nvSpPr>
          <p:spPr>
            <a:xfrm>
              <a:off x="4572000" y="278136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8"/>
            <p:cNvSpPr/>
            <p:nvPr/>
          </p:nvSpPr>
          <p:spPr>
            <a:xfrm>
              <a:off x="5219640" y="2781360"/>
              <a:ext cx="2089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395280" y="1484280"/>
            <a:ext cx="511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«Вместе с тем, подростку важен взрослый, ему важно его признание  и важно его понимание, по каким нормам живут люди (взрослые) в этом ми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Что подходит ему уже сейчас, а что нет». (Хасан Е.Б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979640" y="3933720"/>
            <a:ext cx="668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«Старшие подростки обнаруживают не меньшую, а часто и большую потребность в доверительных, глубоких, диалогических, демократических,  очень похожих на интимные в широком смысле этого слова контактах со взрослыми, причём как своего так и противоположного пола». (Лидерс А.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1405440" y="45576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пецифика подросткового возра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538920" y="1125360"/>
            <a:ext cx="82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Основные потребности подростка (Ремшмидт Х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95280" y="1989000"/>
            <a:ext cx="856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Физиологическая (запускающая физиологическую и сексуаль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активност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399240" y="2637000"/>
            <a:ext cx="68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требность в безопасности (принадлежность к групп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406440" y="2997360"/>
            <a:ext cx="64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требность в зависимости и эмансипации от семь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398880" y="3429000"/>
            <a:ext cx="38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требность в привязан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401040" y="3933720"/>
            <a:ext cx="67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требность в успехе, в проверке своих возможнос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403920" y="4437000"/>
            <a:ext cx="72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требность в самореализации и развитии собственного 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592200" y="5105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447840" y="481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324000" y="522936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«Группы личностного рост с подростками дают последним возможность опробовать, а частично и реализовать, способы удовлетворения всех этих потребностей». (Лидерс А.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1405440" y="45576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пецифика подросткового возра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324000" y="549360"/>
            <a:ext cx="8353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«Педагогическое сопровождение социально – профессионального самоопределения школьников – это особая сфера деятельности педагога – фасилитатора, ориентированная на взаимодействие со школьником по оказанию ему поддержки в становлении личностного роста, социальной адаптации, принятии решения об избираемой профессиональной деятельности и самоутверждения в ней». (Чистякова С.Н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Принципиально новым оптимальным методом для реализации такого подхода может служить психологический трен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376200" y="71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250920" y="476280"/>
            <a:ext cx="864216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это форма специально организованного общения, психологическое воздействие которого основано на активных методах групповой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Важнейшая задача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помочь участнику выразить себя своими индивидуальными средствами, именно СВОИМИ, а для этого сначала нужно научиться  воспринимать и понимать себя». (Прудченков А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1043280" y="1341360"/>
            <a:ext cx="73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аёт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возможность воспринимать себя чере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464400" y="2395440"/>
            <a:ext cx="50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оотнесения себя с другим человек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464040" y="3116160"/>
            <a:ext cx="45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восприятие себя другими людь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532080" y="3908520"/>
            <a:ext cx="551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результаты собствен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601920" y="4556160"/>
            <a:ext cx="646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аблюдение собственных внутренних состоя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606240" y="5275440"/>
            <a:ext cx="579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восприятие собственного внешнего обл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900000" y="549360"/>
            <a:ext cx="748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108000" y="1341360"/>
            <a:ext cx="8594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Ведущая гуманистическая идея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не принуждать человека, не давить на нег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 помочь ему стать самим с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Основная цель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развитие компетентности в общ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280680" y="371628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ругие ц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92560" y="4168800"/>
            <a:ext cx="213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личностный р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259640" y="4653000"/>
            <a:ext cx="53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бучение новым психологическим технолог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2703240" y="5229360"/>
            <a:ext cx="49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тработка новых поведенческих паттер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2044440" y="450720"/>
            <a:ext cx="495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3:24:09Z</dcterms:created>
  <dc:creator>User</dc:creator>
  <dc:description/>
  <dc:language>en-US</dc:language>
  <cp:lastModifiedBy>LEGION</cp:lastModifiedBy>
  <dcterms:modified xsi:type="dcterms:W3CDTF">2014-11-12T09:34:36Z</dcterms:modified>
  <cp:revision>39</cp:revision>
  <dc:subject/>
  <dc:title>Слайд 1</dc:title>
</cp:coreProperties>
</file>